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2B0C8-E952-4925-BB8C-E2BCFE8364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4300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F29-8FD5-4584-8115-52E2163F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12A-12BA-46B4-8866-7AADED38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6A9-F1B7-43C0-92CA-0121F354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82F-F2C8-45B6-8F0C-A3175319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A624-C767-4003-B717-350A93F8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36E0-F471-4FE1-819C-869F6340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2DF3-405E-42F5-A01B-6A72B9FA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6A4D-ED90-4F93-AA3F-7C300DBA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6281-AA1A-4FE9-942C-290A74B6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EB07-29CB-4CF1-AB0E-AEF37EAE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1106-AD0C-4606-B3B4-6B1220B5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262-CD74-4947-BA57-9AA29574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675D-544F-4DA5-9C39-AE9A428C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2C19-97E3-4FCC-825E-0AA952FC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24B4-9E60-481C-9268-4AA8F8BE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C853-EAB2-46F5-BD63-52339847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DC4A-CDA9-49D2-ACA4-717187AE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FBC20-6E70-44B3-AF34-7AE7A684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80DAD-1B3E-4501-B1C9-531AFAA6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C29F3-0382-471A-AF74-DD863E40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BD52C-CDEE-4281-BA05-51804B83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53E08-99E9-40B0-A467-57AAF082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520-2781-4FCC-B672-E1F72B3B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DD7B5-8166-4588-AA66-D49E149C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21CC8-A407-4413-88D8-C4E19F45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F750-0CD4-4B4D-8A15-0F7A3C40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BF5A9-54B2-4D01-8254-98C7C72E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256F7-ECE5-4E7C-971E-ECA89FA4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06AD9-93D9-4CD5-8092-94D68F94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84740-576B-47F6-B83C-ABEE5604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8370D-4FF6-4231-A8AE-3FC36648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F24DD-F88D-4AF5-910C-ED3CF69A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295BD-8A41-44D2-BD1D-5FD9ABE1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079-0EB7-4B61-8EEE-0421E1DA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0C3FE-18A5-429E-B72B-2F4C1CF6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050D7-B27E-480B-BABA-09AAEB9D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C50C6-22EA-469D-B946-576F50C5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33FA0-9753-4C89-84ED-2B71649B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13BF6-28B1-4087-8976-58B31EBA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EACD9-37B4-4966-AF61-9F2844E8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D7B74-DD81-4671-BC9F-0EE2026C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4B680-896E-4ED9-913C-45316E88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F33A5-6355-4259-B706-830CDD5A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D21-A9FC-4B50-B580-6A0242EA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2E8-71F8-4B94-A68B-DAB80CEB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8B87-8398-4214-9224-9A0C7BA6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E17-9A16-46D6-B83A-91F4A308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C74-B61C-433B-BBC0-3B240A48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6DE70-B949-4239-AAE7-9DB66AD1A2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7376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4550B-6D39-475B-A76A-842C4A0ACF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7376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8DD21-D72C-443E-AC70-E31816AFF5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65319-7131-49A6-8D0A-FFEF60A2DA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linux-mag.com/cache/7357/1.html" TargetMode="External"/><Relationship Id="rId2" Type="http://schemas.openxmlformats.org/officeDocument/2006/relationships/hyperlink" Target="http://lwn.net/Articles/276025" TargetMode="External"/><Relationship Id="rId3" Type="http://schemas.openxmlformats.org/officeDocument/2006/relationships/hyperlink" Target="http://www.linux-mag.com/id/7308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ilfs.org/" TargetMode="External"/><Relationship Id="rId2" Type="http://schemas.openxmlformats.org/officeDocument/2006/relationships/hyperlink" Target="http://www.nilfs.org/" TargetMode="External"/><Relationship Id="rId3" Type="http://schemas.openxmlformats.org/officeDocument/2006/relationships/hyperlink" Target="http://www.nilfs.org/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lwn.net/Articles/339641" TargetMode="External"/><Relationship Id="rId2" Type="http://schemas.openxmlformats.org/officeDocument/2006/relationships/hyperlink" Target="http://lkml.org/lkml/2009/5/18/289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lwn.net/" TargetMode="External"/><Relationship Id="rId2" Type="http://schemas.openxmlformats.org/officeDocument/2006/relationships/hyperlink" Target="http://www.lwn.net/" TargetMode="External"/><Relationship Id="rId3" Type="http://schemas.openxmlformats.org/officeDocument/2006/relationships/hyperlink" Target="http://www.lwn.net/" TargetMode="External"/><Relationship Id="rId4" Type="http://schemas.openxmlformats.org/officeDocument/2006/relationships/hyperlink" Target="http://elinux.org/" TargetMode="External"/><Relationship Id="rId5" Type="http://schemas.openxmlformats.org/officeDocument/2006/relationships/hyperlink" Target="http://elinux.org/" TargetMode="External"/><Relationship Id="rId6" Type="http://schemas.openxmlformats.org/officeDocument/2006/relationships/hyperlink" Target="http://elinux.org/" TargetMode="External"/><Relationship Id="rId7" Type="http://schemas.openxmlformats.org/officeDocument/2006/relationships/hyperlink" Target="http://vger.kernel.org/vger-lists.html#linux-embedded" TargetMode="External"/><Relationship Id="rId8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76360" y="653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us of Embedded Linux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00000" y="30686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us o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Linu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56400" cy="1838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692360" y="5589720"/>
            <a:ext cx="624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 Bird - CELF A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1-rc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trace fil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memle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Technology Areas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979280" y="346824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chnology Are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ystem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ootup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quashF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ssed, read-only 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lined in 2.6.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s out-of-tree fo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LF contracted author to mainlin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linux-mag.com/cache/7357/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UBIF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purpose flash filesystem, built on wear-leveling layer above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lined in 2.6.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lwn.net/Articles/276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TRF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ck-pointing log-structured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lined in 2.6.29, BUT STILL EXPERI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linux-mag.com/id/73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re File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IL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ILFS = New Implementation of a Log-Structured 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inous checkpointing, ability to snapsh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inlined in 2.6.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nilfs.org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X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anced XIP Fil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ll hanging a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ffered to Numonyx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st mainline attempt was August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g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ffort seems to have dropped o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6868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atches of interes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FAT patent worka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attempts by Andrew Tridgell to work around Microsoft VFAT long-name pa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 attempt was controversial, because functionality was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w approach preserves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lwn.net/Articles/3396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FS-based union 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lkml.org/lkml/2009/5/18/2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ome log-structured file system is needed for fast moun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ly NILFS or BRTFS will fill this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stem Size / Mem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ux-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LF contracted with Free-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 patches mainlined in Fall by Thomas Petazz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ffunction_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ut each function in it’s own linker se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llows elimination of unused c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tches sent last July, but I haven’t seen any update since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ZMA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ort for LZMA kernel image compression (up to 30% better than gz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ill would like to see generic LZMA support in kernel (for e.g. SquashF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e http://www.squashfs-lzma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much new development (AXFS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ressed sw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atest patch is “compcach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ses LZO-compressed RAM based block device as swap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ACKed because MM developer disliked the use of xvmallo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ompcache resul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696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0066"/>
                </a:solidFill>
                <a:latin typeface="Arial"/>
              </a:rPr>
              <a:t>sme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tool to provide information about system memory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roportional Set Siz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SS), which accounts better for shared pages, and doesn’t lie, like R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s visualization (char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: Matt Mack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ented at ELC 2009 – is in good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ttp://www.selenic.com/sm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Ver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ology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Contract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edded Dis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em_notify pat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ddition to cgroup system to support notification on low mem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tches not really noticed by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me feedback was addressed, and patch was submitted again (last wee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rk was funded by C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Bootup 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ootup time is now a hot topic (due to netbook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tel 5-second boot on Mobl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http://lwn.net/Articles/2994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synchronous function ca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lined in 2.6.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http://lwn.net/Articles/3148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scripts/bootgraph.pl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for visualization of initca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w Readahead techniq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ggressive application optimizations (especially for X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800" spc="-1" strike="noStrike">
                <a:solidFill>
                  <a:srgbClr val="330066"/>
                </a:solidFill>
                <a:latin typeface="Arial"/>
              </a:rPr>
              <a:t>Bootup Time patches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evtmpf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form of devfs again (oh no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0.6 second faster boot-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n desktops – who uses dynamic device nodes in embedded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tr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TT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ystemT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erf Coun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Tra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s a new system to provide kernel tra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eneric framework for adding tracing to the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s multiple tracers, selectable at run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frastructure for tracepoint definition, data capture (ring buffer), tracer control and trace out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e mainlined in 2.6.2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re bits coming (generic filtering in 2.6.3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http://people.redhat.com/srostedt/ftrace-world.od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-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T-preem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rupt thre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ainlined 2.6.3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leeping Spin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omas Gleixner and Ingo Molnar got busy with other stuf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aybe a push to mainline this Fal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Xenom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ual-kernel Real-time 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ccessor to Adeos/I-Pi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http://www.xenomai.or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akelocks submitted by Goog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ernel PM developers rejected the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ut this opened a discussion of the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http://lwn.net/Articles/3186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’m not sure what else is going on lat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udio/Video/Graph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Strea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de-facto standard for video management for handh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rectF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inued uptake in TV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penGL 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-facto standard for 3D API (/Gaming in embedded?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utter (GTK UI Framewor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cur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moy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M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ELF project to analyze SM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mbedded SELinu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 haven’t heard anything n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curity Modu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omoyo Linu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ath-based security modu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inlined in 2.6.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s a big deal to get a path-based LSM into the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e http://elinux.org/TomoyoLinu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entations on using Tomoyo with Android at Japan Technical Jamborees 27 and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ma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Mainlined in 2.6.25 kern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eems good for embedded (low overhea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93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ELF started project to evaluate TV use c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e http://lwn.net/Articles/29229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mbedded SE Linu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aven’t heard much latel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Linux Kernel Versions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979280" y="346824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curity – oth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ity Measur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kernel to interact with TPM and ensure trusted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lined in 2.6.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wn.net/Articles/1373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rch: “Integrity Measurement Architecture IBM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scellaneous Stuf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ice Trees for A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ice Trees is a mechanism to pass info from bootloader to 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upported in X86 and PP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f all platforms supported it, it could allow more uniform device driv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lso, allows for a single binary to run on multiple platfor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a new hot top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LNA summit 2 – November in the Netherl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ELF profided DLNA hardware and specs to OSS develo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Embedded Distributions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979280" y="346824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bedded Distribu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obl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l transferred control to Linux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 of devices seem to be expl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iting to see consumer up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aem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emo to use Qt (not a big surpr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lwn.net/Articles/341391 (subscriber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penW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hro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’t really know what’s in it y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  <a:ea typeface="Arial"/>
              </a:rPr>
              <a:t>Contract Work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979280" y="346824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LF Contract 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m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OM notifications in c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quash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MACK on TV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lash filesystem testing and compari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rectFB mainl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tt Mackall – maintainer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act Work No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MACK on TV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ite paper completed this we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hould show up on elinux wiki very s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lash filesystem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hould be available on elinux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rectFB mainl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ng support to Linux kermel for “fusion” ex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att Macka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s now in MAINTAINERS file as an embedded Linux maintai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oining David Woodhouse and Paul Gortma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F pays for Matt to do miscellaneous development and advocacy for embedded Linux kernel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Community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979280" y="346824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eed to build embedded linux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lease use linux-embedded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LD embedded linux developer por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upported by Monta V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inux wi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rnel Ver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26 – 13 July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27 – 9 Oct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28 – 24 Dec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29 – 23 Mar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0 – 10 June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1-rc3 – 14 Ju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76000" y="160200"/>
            <a:ext cx="7545240" cy="12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eLinux Wik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31040" cy="51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ite for embedded Linux develop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Very good for some technical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gnant in some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tes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inux.org working BOF at EL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lease use it and post stuff the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C Europe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C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Videos should be available so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C Europe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apan Linux Sympos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C 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http://www.embeddedlinuxconference.com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C Europe 2009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noble, F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tober 15, 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ers notified – program looks good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pan Linux Sympos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kyo, Jap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ctober 21-2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s Torvalds is spea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rnel Summit scheduled for October 19-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eakers notified – program shaping 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12360" y="492120"/>
            <a:ext cx="74948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LC 2010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urrent pla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ril 12-14 in San Francisco, CA,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-Located with Linux Foundation Collaboration Summ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l for presentations should go out shor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Resources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WN.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lwn.net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you are not a subscriber, please do 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is an invaluable community resource that needs you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inux wi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elinux.org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x-embedded mailing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vger.kernel.org/vger-lists.html#linux-embe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cus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take control of kernel away from Enterprise and Desktop develop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ic community answer – donate more patches than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other ide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93000"/>
              </a:lnSpc>
              <a:spcBef>
                <a:spcPts val="8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tractions, bribes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ep up the good work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2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GD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ly, an in-kernel debugger gets mainl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27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trace c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BI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ts of Linux-t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28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race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ts of Linux-t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29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quash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TR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ernel mode se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ility to set graphics mode in 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ynchronous Function Ca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MOYO security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ity measur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aded interrup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L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Tim Bird</cp:lastModifiedBy>
  <dcterms:modified xsi:type="dcterms:W3CDTF">2009-07-16T19:17:49Z</dcterms:modified>
  <cp:revision>31</cp:revision>
  <dc:subject/>
  <dc:title>スライド 1</dc:title>
</cp:coreProperties>
</file>